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2671-6699-44E4-8533-A9BEFE3A2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2A35-A0D5-46B1-A5C8-3B859DD8D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FED2-2A5B-4A0E-B003-39E92BC045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65F1-AFDC-44EA-A51E-EA8E02FC9D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3888-B63E-4A30-80C9-6DE0341E6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0164-47D7-4C0B-95D5-41414DDA95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98C8-7B9B-48E2-A9F5-FC646BB616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1C9B-5DBB-4093-84D4-AECF1D6683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A667-F6A8-44B8-BAA6-B6518501FF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5A2C-D10D-425D-B78C-9E0FD36B7A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8284-D8A8-498C-B778-E7CF567C86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0025-F988-4DD5-8F3D-883A72B193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FD99-7850-49D1-80D5-F49CA02166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BDC1-FE41-4760-85DA-28C2CB5776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1531-4A8B-4DE7-8178-966779C6DEE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4560" y="1412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68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T 6, Baba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titutional co-operation and co-lear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es, challenges and lessons learned 2013-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Placeholder 2"/>
          <p:cNvSpPr/>
          <p:nvPr/>
        </p:nvSpPr>
        <p:spPr>
          <a:xfrm>
            <a:off x="595440" y="38862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writesh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SM, June 30 – July 2, 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Babati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R4D platform research activities and outp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2421000"/>
          <a:ext cx="7772400" cy="2936880"/>
        </p:xfrm>
        <a:graphic>
          <a:graphicData uri="http://schemas.openxmlformats.org/drawingml/2006/table">
            <a:tbl>
              <a:tblPr/>
              <a:tblGrid>
                <a:gridCol w="1090440"/>
                <a:gridCol w="1400400"/>
                <a:gridCol w="52815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activities/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ventory May – Sept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 and Kongwa/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analysis R4D Babati, establishment JU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M JUMBA, MC work plan 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form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BA in BDC; Evaluation JU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ventory ward level platfo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Diagram 3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791400" cy="4930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3780000" y="2568600"/>
            <a:ext cx="2062080" cy="2168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3"/>
          <a:stretch/>
        </p:blipFill>
        <p:spPr>
          <a:xfrm>
            <a:off x="4869000" y="299736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5011560" y="335772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16320" y="387360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6"/>
          <a:stretch/>
        </p:blipFill>
        <p:spPr>
          <a:xfrm>
            <a:off x="4437000" y="3911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"/>
          <p:cNvPicPr/>
          <p:nvPr/>
        </p:nvPicPr>
        <p:blipFill>
          <a:blip r:embed="rId7"/>
          <a:stretch/>
        </p:blipFill>
        <p:spPr>
          <a:xfrm>
            <a:off x="4356000" y="4130640"/>
            <a:ext cx="182520" cy="18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8"/>
          <a:stretch/>
        </p:blipFill>
        <p:spPr>
          <a:xfrm>
            <a:off x="5364000" y="4086360"/>
            <a:ext cx="182880" cy="1839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324000" y="1773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nov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strategic level Research for Development Platform (JUMBA) established as an integrated part of Babati District Council annual budget and activity pl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aluation of JUM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keholder inventory and analysis completed as a preparation for establishment of six ward level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Other socio-economic 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85640" y="2006640"/>
          <a:ext cx="8407440" cy="4479840"/>
        </p:xfrm>
        <a:graphic>
          <a:graphicData uri="http://schemas.openxmlformats.org/drawingml/2006/table">
            <a:tbl>
              <a:tblPr/>
              <a:tblGrid>
                <a:gridCol w="1179720"/>
                <a:gridCol w="1371600"/>
                <a:gridCol w="58561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gtsson and Klerfelt (2014):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al Intensification and Livelihood Strategies of Female Farmers in Babati District, Tanzania. University of Gothenbu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c (iAgri)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ldwork MSc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ozi, S (2016)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cy and Effectiveness of Approaches for Adoption and Scaling of Integrated Systems Innovations among Smallholder Farmers in Babati, Tanzan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MSc thesis, Egerton Univers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ka, M (2016)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of ISFM Technology Adoption on Household Poverty in Tanzania: A Case of Smallholder Maize and Pigeon-pea Farmers in Babati Distri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MSc thesis, Makerere Univer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07-03T13:33:50Z</dcterms:modified>
  <cp:revision>87</cp:revision>
  <dc:subject/>
  <dc:title>Slide 1</dc:title>
</cp:coreProperties>
</file>